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C37-DE43-4DE4-8DC5-061F7104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BD2-B3EF-4938-A96C-7EE70FCF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7BF9-D610-46A6-9682-AEB78729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8F6-B29B-420A-852A-44C65B84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54D-EC2D-4B61-9AFF-7495F8C6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D441-D8C9-4CAE-9B62-EBE574BB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215-BA23-4857-97F0-EFED5B0B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D12-F940-4BCF-BAB9-0F73A008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7A6-0E95-47EA-BF97-96ED0E81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4255-C16E-47A9-AC3F-2EBE236F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8DF2-8164-435D-8A0F-405AE375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E0C-1FE5-4E0E-8F6F-B44B2C16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2CE4-79D4-4AAF-AB50-669A4DEA24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1" descr=""/>
          <p:cNvPicPr/>
          <p:nvPr/>
        </p:nvPicPr>
        <p:blipFill>
          <a:blip r:embed="rId1"/>
          <a:stretch/>
        </p:blipFill>
        <p:spPr>
          <a:xfrm>
            <a:off x="1266840" y="822240"/>
            <a:ext cx="6772320" cy="119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92200" y="2521080"/>
          <a:ext cx="2571840" cy="1728360"/>
        </p:xfrm>
        <a:graphic>
          <a:graphicData uri="http://schemas.openxmlformats.org/drawingml/2006/table">
            <a:tbl>
              <a:tblPr/>
              <a:tblGrid>
                <a:gridCol w="857160"/>
                <a:gridCol w="857520"/>
                <a:gridCol w="857160"/>
              </a:tblGrid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百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十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个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8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3" name="文本框 3"/>
          <p:cNvSpPr/>
          <p:nvPr/>
        </p:nvSpPr>
        <p:spPr>
          <a:xfrm>
            <a:off x="3368520" y="25210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个小圆片放在个位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一，也就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4"/>
          <p:cNvSpPr/>
          <p:nvPr/>
        </p:nvSpPr>
        <p:spPr>
          <a:xfrm>
            <a:off x="3301920" y="3106800"/>
            <a:ext cx="45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个小圆片放在十位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十，也就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368520" y="3603600"/>
            <a:ext cx="45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个小圆片放在百位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百，也就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摆一摆数，说一说数的组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373040" y="2127240"/>
          <a:ext cx="6399360" cy="2658960"/>
        </p:xfrm>
        <a:graphic>
          <a:graphicData uri="http://schemas.openxmlformats.org/drawingml/2006/table">
            <a:tbl>
              <a:tblPr/>
              <a:tblGrid>
                <a:gridCol w="2133720"/>
                <a:gridCol w="2131920"/>
                <a:gridCol w="2133720"/>
              </a:tblGrid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百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十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个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6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3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游戏一：小巧在位置图上用小圆片放出了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0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小胖加放了一片小圆片，现在这个数可能是（                  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3301920" y="255276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0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371600" y="3530520"/>
          <a:ext cx="6399360" cy="2660400"/>
        </p:xfrm>
        <a:graphic>
          <a:graphicData uri="http://schemas.openxmlformats.org/drawingml/2006/table">
            <a:tbl>
              <a:tblPr/>
              <a:tblGrid>
                <a:gridCol w="2133720"/>
                <a:gridCol w="2131920"/>
                <a:gridCol w="2133720"/>
              </a:tblGrid>
              <a:tr h="970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百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十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个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690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1" name="椭圆 6"/>
          <p:cNvSpPr/>
          <p:nvPr/>
        </p:nvSpPr>
        <p:spPr>
          <a:xfrm>
            <a:off x="1811160" y="4819680"/>
            <a:ext cx="216000" cy="2160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"/>
          <p:cNvSpPr/>
          <p:nvPr/>
        </p:nvSpPr>
        <p:spPr>
          <a:xfrm>
            <a:off x="1455840" y="4819680"/>
            <a:ext cx="215640" cy="2160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8"/>
          <p:cNvSpPr/>
          <p:nvPr/>
        </p:nvSpPr>
        <p:spPr>
          <a:xfrm>
            <a:off x="2154240" y="4857840"/>
            <a:ext cx="216000" cy="2156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9"/>
          <p:cNvSpPr/>
          <p:nvPr/>
        </p:nvSpPr>
        <p:spPr>
          <a:xfrm>
            <a:off x="2576520" y="4819680"/>
            <a:ext cx="216000" cy="2160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0"/>
          <p:cNvSpPr/>
          <p:nvPr/>
        </p:nvSpPr>
        <p:spPr>
          <a:xfrm>
            <a:off x="3086280" y="4819680"/>
            <a:ext cx="215640" cy="2160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1"/>
          <p:cNvSpPr/>
          <p:nvPr/>
        </p:nvSpPr>
        <p:spPr>
          <a:xfrm>
            <a:off x="5842080" y="4819680"/>
            <a:ext cx="216000" cy="2160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2"/>
          <p:cNvSpPr/>
          <p:nvPr/>
        </p:nvSpPr>
        <p:spPr>
          <a:xfrm>
            <a:off x="6956280" y="4857840"/>
            <a:ext cx="216000" cy="2156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13"/>
          <p:cNvSpPr/>
          <p:nvPr/>
        </p:nvSpPr>
        <p:spPr>
          <a:xfrm>
            <a:off x="6380280" y="4819680"/>
            <a:ext cx="215640" cy="2160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87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巧在位置图上摆了一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4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小亚从这上面拿掉了一个小圆片，现在这个数会是（                    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371600" y="3530520"/>
          <a:ext cx="6399360" cy="2660400"/>
        </p:xfrm>
        <a:graphic>
          <a:graphicData uri="http://schemas.openxmlformats.org/drawingml/2006/table">
            <a:tbl>
              <a:tblPr/>
              <a:tblGrid>
                <a:gridCol w="2133720"/>
                <a:gridCol w="2131920"/>
                <a:gridCol w="2133720"/>
              </a:tblGrid>
              <a:tr h="970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百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十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个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690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1" name="椭圆 7"/>
          <p:cNvSpPr/>
          <p:nvPr/>
        </p:nvSpPr>
        <p:spPr>
          <a:xfrm>
            <a:off x="1477800" y="4819680"/>
            <a:ext cx="216000" cy="2160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3"/>
          <p:cNvSpPr/>
          <p:nvPr/>
        </p:nvSpPr>
        <p:spPr>
          <a:xfrm>
            <a:off x="2021040" y="4819680"/>
            <a:ext cx="215640" cy="2160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4"/>
          <p:cNvSpPr/>
          <p:nvPr/>
        </p:nvSpPr>
        <p:spPr>
          <a:xfrm>
            <a:off x="4464000" y="5073480"/>
            <a:ext cx="216000" cy="2160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6"/>
          <p:cNvSpPr/>
          <p:nvPr/>
        </p:nvSpPr>
        <p:spPr>
          <a:xfrm>
            <a:off x="3933720" y="5073480"/>
            <a:ext cx="216000" cy="2160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8"/>
          <p:cNvSpPr/>
          <p:nvPr/>
        </p:nvSpPr>
        <p:spPr>
          <a:xfrm>
            <a:off x="4464000" y="4730760"/>
            <a:ext cx="216000" cy="2160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9"/>
          <p:cNvSpPr/>
          <p:nvPr/>
        </p:nvSpPr>
        <p:spPr>
          <a:xfrm>
            <a:off x="3933720" y="4730760"/>
            <a:ext cx="216000" cy="2160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10"/>
          <p:cNvSpPr/>
          <p:nvPr/>
        </p:nvSpPr>
        <p:spPr>
          <a:xfrm>
            <a:off x="5931000" y="4984920"/>
            <a:ext cx="215640" cy="2156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1"/>
          <p:cNvSpPr/>
          <p:nvPr/>
        </p:nvSpPr>
        <p:spPr>
          <a:xfrm>
            <a:off x="6437160" y="4984920"/>
            <a:ext cx="216000" cy="2156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2"/>
          <p:cNvSpPr/>
          <p:nvPr/>
        </p:nvSpPr>
        <p:spPr>
          <a:xfrm>
            <a:off x="6942240" y="4984920"/>
            <a:ext cx="215640" cy="2156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3"/>
          <p:cNvSpPr/>
          <p:nvPr/>
        </p:nvSpPr>
        <p:spPr>
          <a:xfrm>
            <a:off x="3225960" y="247644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3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0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游戏二、小亚在位置图上摆了一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7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小丁丁移动了一个小圆片，现在这个数可能是（                                     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71600" y="3530520"/>
          <a:ext cx="6399360" cy="2660400"/>
        </p:xfrm>
        <a:graphic>
          <a:graphicData uri="http://schemas.openxmlformats.org/drawingml/2006/table">
            <a:tbl>
              <a:tblPr/>
              <a:tblGrid>
                <a:gridCol w="2133720"/>
                <a:gridCol w="2131920"/>
                <a:gridCol w="2133720"/>
              </a:tblGrid>
              <a:tr h="970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百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十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个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690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3" name="文本框 6"/>
          <p:cNvSpPr/>
          <p:nvPr/>
        </p:nvSpPr>
        <p:spPr>
          <a:xfrm>
            <a:off x="2401920" y="2514600"/>
            <a:ext cx="43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7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8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6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6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8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7"/>
          <p:cNvSpPr/>
          <p:nvPr/>
        </p:nvSpPr>
        <p:spPr>
          <a:xfrm>
            <a:off x="1477800" y="4819680"/>
            <a:ext cx="216000" cy="2160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8"/>
          <p:cNvSpPr/>
          <p:nvPr/>
        </p:nvSpPr>
        <p:spPr>
          <a:xfrm>
            <a:off x="1477800" y="5308560"/>
            <a:ext cx="216000" cy="2160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9"/>
          <p:cNvSpPr/>
          <p:nvPr/>
        </p:nvSpPr>
        <p:spPr>
          <a:xfrm>
            <a:off x="2033640" y="4819680"/>
            <a:ext cx="216000" cy="2160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10"/>
          <p:cNvSpPr/>
          <p:nvPr/>
        </p:nvSpPr>
        <p:spPr>
          <a:xfrm>
            <a:off x="4324320" y="5200560"/>
            <a:ext cx="216000" cy="2160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11"/>
          <p:cNvSpPr/>
          <p:nvPr/>
        </p:nvSpPr>
        <p:spPr>
          <a:xfrm>
            <a:off x="3768840" y="5200560"/>
            <a:ext cx="215640" cy="2160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2"/>
          <p:cNvSpPr/>
          <p:nvPr/>
        </p:nvSpPr>
        <p:spPr>
          <a:xfrm>
            <a:off x="4915080" y="4753080"/>
            <a:ext cx="215640" cy="2156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3"/>
          <p:cNvSpPr/>
          <p:nvPr/>
        </p:nvSpPr>
        <p:spPr>
          <a:xfrm>
            <a:off x="4324320" y="4753080"/>
            <a:ext cx="216000" cy="2156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14"/>
          <p:cNvSpPr/>
          <p:nvPr/>
        </p:nvSpPr>
        <p:spPr>
          <a:xfrm>
            <a:off x="3768840" y="4753080"/>
            <a:ext cx="215640" cy="2156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15"/>
          <p:cNvSpPr/>
          <p:nvPr/>
        </p:nvSpPr>
        <p:spPr>
          <a:xfrm>
            <a:off x="6059520" y="4730760"/>
            <a:ext cx="216000" cy="2160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16"/>
          <p:cNvSpPr/>
          <p:nvPr/>
        </p:nvSpPr>
        <p:spPr>
          <a:xfrm>
            <a:off x="2033640" y="5308560"/>
            <a:ext cx="216000" cy="2160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在位置图中放上两个小圆片，能得到哪些数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371600" y="3530520"/>
          <a:ext cx="6399360" cy="2660400"/>
        </p:xfrm>
        <a:graphic>
          <a:graphicData uri="http://schemas.openxmlformats.org/drawingml/2006/table">
            <a:tbl>
              <a:tblPr/>
              <a:tblGrid>
                <a:gridCol w="2133720"/>
                <a:gridCol w="2131920"/>
                <a:gridCol w="2133720"/>
              </a:tblGrid>
              <a:tr h="970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百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十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个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690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8T04:49:14Z</dcterms:created>
  <dc:creator>admin</dc:creator>
  <dc:description/>
  <dc:language>en-US</dc:language>
  <cp:lastModifiedBy>admin</cp:lastModifiedBy>
  <dcterms:modified xsi:type="dcterms:W3CDTF">2019-11-08T04:49:1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986</vt:lpwstr>
  </property>
</Properties>
</file>